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857-19A4-4E99-8E72-99DFA44F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D9B-4327-4EDA-A2C5-7188DEC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25F-F0ED-43DB-B1D8-965D3132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5BB-72FA-450D-9BC9-F890B90E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373-5F8D-4F6F-B331-FC21938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82E-89E1-48E5-9F09-0443A89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1CE-A2C2-4F2D-9E38-24A4BBCA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6E9-97B3-4216-9B20-DD2E6CAC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5EA-4F62-480C-BC13-55B95C3B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3D9-5F64-42A0-89AC-5D575CA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54C-55B9-4CEF-93BF-FB44CB3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853-3824-41A6-9DB3-4AFAFCE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2A36-B7B9-42D1-89A3-EE89687A5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авнительная характеристика Обломова и Мани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ечты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о собственном благоустройстве, размышления о человечестве и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жаления о бесцель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предается мечтам, бесплодным и фантастическим, которые никогда не сможет осуществить, так как всякий труд, любая деятельность ему чуж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чтает о том, как хорошо бы построить через пруд каменный мост или от дома повести подземный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а помещики, оба не любят заниматься хозяйством, вести приходные книги, у обоих родовые имения находятся в запустении (деревни Маниловка и Облом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обоих героев - «отсутствие всякой определенной идеи, всякой сосредоточен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голь характеризует Манилова как отрицательного персонажа: «мёртвая душа», за «сладостью» скрывается безразличие и даже 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 в изображении Гончарова не мнимо (как Манилов), а действительно приятный, и действительно добрый, мягкий, откровенный и сердечный человек. И он вызывает в окружающих людях совсем иные (чем Манилов) чув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е 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,  несомненно,  и   гораздо   умнее Манилова, и совершенно лишен той  восторженности  и  слащавости,  которые  в Манилове преоблад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м Обломова станет смерть. Вечный покой, вечная тишина и ленивое «переползанье» изо дня в день тихо остановили машину его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выражение Белинского, можно сказать, что Манилов- «старший брат» Обломова, в котором эта помещичья лень достигла крайней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omposition/get/coid/00277031253376808705/woid/000126011847730696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haracters/get/chid/007085311908178048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8911591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763145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blomov.omsk.edu/koi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. В. Гоголь «Мёртвые ду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 А. Гончаров «Облом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характер Манилова («Мертвые души» Гоголь) и характер Обломова («Обломов» Гонча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ходства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различия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нешност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 32-33 от р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го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ятной на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ёмно-сер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 отсутствием всякой определённой идеи, всякой сосредоточенности в чертах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лица «безразлич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лица – прия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луб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адость» в лице и гл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im16.jpg"/>
          <p:cNvPicPr/>
          <p:nvPr/>
        </p:nvPicPr>
        <p:blipFill>
          <a:blip r:embed="rId1"/>
          <a:stretch/>
        </p:blipFill>
        <p:spPr>
          <a:xfrm>
            <a:off x="990720" y="762120"/>
            <a:ext cx="3504960" cy="47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7" descr="3288_original.gif"/>
          <p:cNvPicPr/>
          <p:nvPr/>
        </p:nvPicPr>
        <p:blipFill>
          <a:blip r:embed="rId2"/>
          <a:stretch/>
        </p:blipFill>
        <p:spPr>
          <a:xfrm>
            <a:off x="4724280" y="1523880"/>
            <a:ext cx="3811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8"/>
          <p:cNvSpPr/>
          <p:nvPr/>
        </p:nvSpPr>
        <p:spPr>
          <a:xfrm>
            <a:off x="20574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58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арактер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828440"/>
            <a:ext cx="404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нив, любит «поваляться» и посп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ервативен во вкусах и взгляд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чт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занимается хозяйст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ое для него – покой, не терпит су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любит заниматься дел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с друзь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призен, может вспыл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«ни то, ни сё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«до тошнот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От него не дождешься никакого живого сл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 думает, мало говор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зяйство идет «само собо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коен, умиротворен, мяг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ахарное» удовольств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 всех хорошего мнения, всем старается угод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нимаемая долж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орянин родом, коллежский секретарь чином, безвыездно живет двенадцатый год в Петербург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Гороховой улице, в одном из больших дом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ледству досталась дере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ат, двое детей (жена – под стать муж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16 верстах от уездного го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еревне Манилов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личие слуг у героев и ведение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05704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га З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ня ( всем заправляет староста, хозяин ничего не знает о доходах и расход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205704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озяйство идет само собой»: помещик не знает о судьбе своих крестьян (приказ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рестьяне живут в нищете, в доме царит беспоря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рузья и светская жизн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, Судьбинский, Пенкин; Алексеев Иван Алексеевич, Михей Андреевич Тарантьев, Андрей Иванович Штольц («человек действ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любит выезжать из дома, «не подъём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160"/>
            <a:ext cx="404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новники уездного города, помещики (Ноздрев, Собакевич и т. 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читает домашний уют, но не против поехать в город, в г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говаривает на др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3-05-07T14:45:05Z</dcterms:modified>
  <cp:revision>12</cp:revision>
  <dc:subject/>
  <dc:title>Название презентации</dc:title>
</cp:coreProperties>
</file>